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C9C-9634-415B-8D72-44B149B2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0EC-763A-4199-A10F-FA7194C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9CE-03FA-4559-BD21-E1EAC73C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F8B-2CFA-4D12-9CE6-F1DA5F1F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069-8983-4262-BBD2-715F61CD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832-8A76-4A96-95C9-72E308E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933-C25A-40BE-88F2-C76B67FE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2EF-9056-409E-8049-07F466F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DBF-0399-4934-9AE0-1338D96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B9C-C429-4680-969A-730D370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190-693D-4B8C-A369-E541D7C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546-8EF7-4E1E-8643-DD342942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A63-329B-4DF0-934B-5E02297145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ostokąt 7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714240" y="2286000"/>
                <a:ext cx="2981520" cy="281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pole tekstowe 6"/>
          <p:cNvSpPr/>
          <p:nvPr/>
        </p:nvSpPr>
        <p:spPr>
          <a:xfrm>
            <a:off x="4000680" y="1714680"/>
            <a:ext cx="4857480" cy="4300200"/>
          </a:xfrm>
          <a:prstGeom prst="rect">
            <a:avLst/>
          </a:prstGeom>
          <a:solidFill>
            <a:srgbClr val="e5ffe5"/>
          </a:solidFill>
          <a:ln w="507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To jest przykład ułamka łańcuch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W jego zapisie występują tylko ułamki o liczniku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Czy wiesz, że każdą liczbę można zapisać za pomocą takiego ułamk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357280" y="1415520"/>
            <a:ext cx="4500720" cy="191916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Aby dowiedzieć się jaką liczbę przedstawia ułamek łańcuchowy wystarczy znać dodawanie ułam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i pojęcie odwrotności liczby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Oto przykła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714240" y="3500280"/>
                <a:ext cx="7786800" cy="15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Prostokąt 8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1785960" y="5357880"/>
                <a:ext cx="16524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5715000" y="5357880"/>
                <a:ext cx="1571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Prostokąt 14"/>
          <p:cNvSpPr/>
          <p:nvPr/>
        </p:nvSpPr>
        <p:spPr>
          <a:xfrm>
            <a:off x="1143000" y="5286240"/>
            <a:ext cx="428760" cy="35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rostokąt 15"/>
          <p:cNvSpPr/>
          <p:nvPr/>
        </p:nvSpPr>
        <p:spPr>
          <a:xfrm>
            <a:off x="5072040" y="5286240"/>
            <a:ext cx="428760" cy="35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6"/>
          <p:cNvSpPr/>
          <p:nvPr/>
        </p:nvSpPr>
        <p:spPr>
          <a:xfrm>
            <a:off x="1214280" y="528624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17"/>
          <p:cNvSpPr/>
          <p:nvPr/>
        </p:nvSpPr>
        <p:spPr>
          <a:xfrm>
            <a:off x="5143680" y="528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ostokąt 3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ytuł 1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57280" y="1434240"/>
            <a:ext cx="4500720" cy="118908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ażdą liczbę można zapisać w postaci ułamka łańcuchoweg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rzykła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214200" y="2786040"/>
                <a:ext cx="86900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2"/>
          <p:cNvSpPr/>
          <p:nvPr/>
        </p:nvSpPr>
        <p:spPr>
          <a:xfrm>
            <a:off x="1857240" y="4287600"/>
            <a:ext cx="5643720" cy="45900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Każdą z liczb zapisz w postaci ułamka łańcuchoweg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rostokąt 9"/>
          <p:cNvSpPr/>
          <p:nvPr/>
        </p:nvSpPr>
        <p:spPr>
          <a:xfrm>
            <a:off x="857160" y="5072040"/>
            <a:ext cx="42876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ole tekstowe 10"/>
          <p:cNvSpPr/>
          <p:nvPr/>
        </p:nvSpPr>
        <p:spPr>
          <a:xfrm>
            <a:off x="92880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ostokąt 11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12"/>
          <p:cNvSpPr/>
          <p:nvPr/>
        </p:nvSpPr>
        <p:spPr>
          <a:xfrm>
            <a:off x="378612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3"/>
          <p:cNvSpPr/>
          <p:nvPr/>
        </p:nvSpPr>
        <p:spPr>
          <a:xfrm>
            <a:off x="6572160" y="5072040"/>
            <a:ext cx="42876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664380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1571760" y="5072040"/>
                <a:ext cx="399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357800" y="5030640"/>
                <a:ext cx="571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7215120" y="5000760"/>
                <a:ext cx="517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20:31:54Z</dcterms:created>
  <dc:creator>Judyta</dc:creator>
  <dc:description/>
  <dc:language>en-US</dc:language>
  <cp:lastModifiedBy>Rycho Rych</cp:lastModifiedBy>
  <dcterms:modified xsi:type="dcterms:W3CDTF">2013-08-28T22:34:59Z</dcterms:modified>
  <cp:revision>6</cp:revision>
  <dc:subject/>
  <dc:title>Ułamki łańcuchowe</dc:title>
</cp:coreProperties>
</file>